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06F60-CB7D-40C7-85AA-F08B261C5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87505-80B3-4897-B5B1-32F2774CE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9DD53-1BB3-4DF6-B66C-717611626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C0716-A757-41C6-AF0A-75BE057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E5395-5D95-4EF0-9BF2-2B6AEA6A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9CA8B-E08F-4B2E-BBFE-4637F9D4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02684-2FB6-4D11-9167-0202D23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2DF67-74B7-41E4-8DEE-F5DDCF2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42E63-CAE5-4385-AED7-C570F09E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83263-9AB5-49A7-8EE2-2717C079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CAFA5-2866-4EA4-B4AB-7B74B5CD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C600F-1962-4FF3-85A5-18FAE80A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F8BE9-F50A-4765-A5D3-F14F25CC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A2E9C-F37D-456B-BEB6-C1504D5E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11A10-7681-4FD6-BFF6-5E85207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C730F-0C48-4FAD-8AB0-AAE5D3E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7E86D-CDEA-44AC-BCF6-E586700E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473C9-685B-4C67-9284-FA4CD84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D09A7-749B-4C98-BFAA-49BB83A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8720D-9C0B-4AE1-B0D6-32BA001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74349-B73C-4145-8EBA-D616348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A9BF8-AE3A-40C5-A45A-02F50557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ECFEC-064F-4C98-9454-2CA500BA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5947D-8140-4CCE-8B17-A8F102EA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DD42B4-E6FD-47B0-AEC3-F433CBE3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5E180D-7CE1-421F-9D54-196D0EEB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6FD844-A3C0-417D-91D3-2A047C8C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0076BC-A119-4361-A678-8B1119EB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347B53-7169-4596-80DC-6FD1BA4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3643B0-18FB-40AE-8DF2-88B083A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643E8-F493-4ADF-AD46-CC0D114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A14E8E-638C-45E8-A285-EC1F803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89CACC-F9FA-4B91-AF3A-E244C342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6CA57-CBB9-4289-A127-2F686396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C8C028-FF21-4E31-8201-E2DA60CC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0DE517-3D3B-4316-88AC-1FE854F6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4FCC1B-DF07-4D37-B3DE-9A180BAA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3C807-7A02-4529-BE7A-68C4E370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3E958-1B49-4709-B2E9-B835E88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FD77A-9DDE-463F-8A73-BC2422DC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97E28-315A-4567-9D35-4BB0870A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D06DA-279D-4D37-AC23-570524D3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73E2F-1841-46D6-8083-0C0512FC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CAD86-0809-45B0-9900-F8F8D9F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BD4E5-48F2-4028-8AF3-8EE5195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7C6E9-9CA0-4944-8266-EE16D5D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E4EA4-BE97-477E-8077-B53076E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321FF-9C7B-4FF9-9525-E1A4C0AF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F8A51-9905-49ED-AA61-A10D8A8D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CE159-5ABE-4463-9703-F6981B38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77C0E-9850-4570-8883-187A066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2288D-8B7D-4889-991A-03F1E7D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0FB79-6F49-4DED-8AB0-CC4B2AD9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3FDA0-1846-4449-86A3-45C3729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B303B-B5E9-46CE-AF99-754E9D2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071DB-384D-47B7-900E-1187338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6D24D-749C-402E-8F04-2D35E9C8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31471-6E4D-448B-AE66-60964844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A8A7E-DA92-4899-ABC0-3C8A190F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B96D6-3276-4DAB-B420-56DE3247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7F329-DDE0-4ABD-A64D-E5EEADEC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159C3-0F1B-4CCE-9BE7-09510CA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58139-C5F3-433A-88BC-284E7F6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96D3B-53A1-49A6-8748-F356440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43255-F15E-4385-82FC-83D74DC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4B868-7827-4DDA-A87B-A5F02C7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432C4-BABF-4F7F-AD1E-67BAC69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BF950-A2FA-47E5-A2E2-F437CD9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72E07-3E7C-404B-A387-07A98480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0BD50-D981-4320-AD7D-E7E8C42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92DFD-4350-492B-8D3B-F9FB9B8A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523BE-2A3E-441E-98B8-1D16D027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B9840-A7F2-435D-A12E-7A6DD6D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B0F80-4C0C-41E9-AC13-DD5F4C5F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1F0B7-3A45-4B37-8AAD-482B579A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CF30A-DF5C-4595-A92F-89343615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3A766-0EBD-49DB-88B4-5AD8D3D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7B853-5DE7-4930-BF39-E2E134E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A4EC1-5928-408D-BC2D-2CCA76E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2AC61-523A-43AF-A09F-17A1ABD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2FCBF-7690-4948-9F4C-F80C5BD7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1D308-BCFA-43E4-9203-18894FF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C3489-F0D4-4102-8ED0-6E4402E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9F69E-6F6B-4C13-8807-6EE9262E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CE3D1-4E9D-4D24-BF08-E64A79AF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A376A-4218-4ED2-B22A-036474BB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EE789-1E7B-4548-BBB9-A61EE3B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9ED68A-DFA9-4970-B5CB-95C285E0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001A0-2297-487D-A0CB-64F91E71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5D256-FED4-450A-8E56-1370A38F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7458D-DF72-490B-A47D-9C74BD7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23B09-976A-4C9C-AFB7-687D1F3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6425F-08CE-4A8F-92AA-DB5AF9E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3B4869-8193-4D8D-807D-37E603A8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4AC8B-BEF6-4996-B911-8F64F2B6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BE4688-5894-40B6-AB10-BBB89A28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DEC2E-3249-460A-8B93-7BE1B3F6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7147C-906E-41D1-BABB-C28EDA87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5CCD5-BF04-4DA1-9AF6-4BA0EB02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64024-14A2-4D23-AA09-5230623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F9F2F0-EB3F-4889-A158-2D02CA3A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6EB73-38F1-4F52-80FD-3B7AA8B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A1FB30-E62F-4666-94C2-5EB7307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47535B-4ECC-4365-BD4E-E08F239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8E13F-09AA-46F1-AC1A-BC9E0D8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ECE7D-D56D-4DED-964E-BFC93131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F78A1-8933-402B-B431-336A1E83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2DB88B-D1DD-49A4-A1F8-839E5B84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487698-253E-40B0-8DBD-0FF2EFB0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26BEBC-ECBD-4D0B-862A-3E751FC2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EEF0A1-A760-45BC-9567-EC458AD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C4BD4-5FE8-496E-B506-45F7395B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E6A65-ACFA-441D-80D3-3BF77BA2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DFC1C0-05DD-4B91-879C-0281AA8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DD33AD-AB4B-4585-B92C-78261644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0F37A-710B-4702-B14E-61095CF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E6180E-F083-42D1-ACFC-973749D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3C7E6-C62D-46E8-B2D9-62382A7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053E07-0887-4E80-B2EE-81371FFB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9467CE-5516-4365-B517-268668A6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2F5F16-07CD-491E-9CCB-60EF21F2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84250-526D-45D2-BEF3-2FB1167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138EED-4271-496F-9C83-BFD0C996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3321CA-D8EB-405D-A988-75E16DE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E279BA-B2AA-4475-8BDF-CFBC9B6D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2B10D6-B6EA-4C64-929E-4B17B01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3BB53-A15A-4679-BE80-EC781DA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CC098-B1DF-4792-8C2E-3BF27A35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05A297-A228-44C0-8DB5-22F0444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BD3383-613B-4EBD-ABD4-33FAE10F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6C2C15-53B6-4FF0-9C73-779857FC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C1E41-FE3B-4966-897D-50C6A378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41AA5-69C1-4AAB-BE1E-183BC794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8EC46-CE30-4402-A276-05AEF30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9DE70-549D-4FF8-91F7-F124C08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iki.esipfed.org/index.php/Air_Quality_Data_Network_Solta_2011" TargetMode="External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hyperlink" Target="mailto:rhusar@wustl.edu" TargetMode="External"/><Relationship Id="rId5" Type="http://schemas.openxmlformats.org/officeDocument/2006/relationships/hyperlink" Target="http://wiki.esipfed.org/index.php/Air_Quality_Data_Network_Solta_2011" TargetMode="External"/><Relationship Id="rId6" Type="http://schemas.openxmlformats.org/officeDocument/2006/relationships/hyperlink" Target="mailto:m.schultz@fz-juelich.d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iki.esipfed.org/index.php/Air_Quality_Data_Network_Solta_2011" TargetMode="Externa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hyperlink" Target="http://wiki.esipfed.org/index.php/Air_Quality_Data_Network_Solta_2011" TargetMode="Externa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 u="sng">
                <a:solidFill>
                  <a:srgbClr val="0000ff"/>
                </a:solidFill>
                <a:uFillTx/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ee Workshop Wiki for Details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ontacts: Rudolf Husar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rhusar@wustl.ed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; Martin Schultz,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m.schultz@fz-juelich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7" descr=""/>
          <p:cNvPicPr/>
          <p:nvPr/>
        </p:nvPicPr>
        <p:blipFill>
          <a:blip r:embed="rId7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B1E84-F4B5-4CAC-BB4F-A256AADFE08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7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5B6F3-1B30-4CF1-9FDD-17BF245F687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15DD8-6D1C-4461-857F-5A3F611132D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30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1F850-E5CC-47A9-9AFD-93B4FFB8344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F13BE-3981-41BC-8913-8FA55B7F583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33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09DE4-42D6-4B4F-98B0-B57A5E8936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A15E6-3AC4-41DB-AD7A-109914AC1DB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6E5E7-2D86-493E-9BD7-6BE957F5C5E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FF5A3-8148-406C-B3B6-DC02CF49A8A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6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74EED-BAFD-46E2-B3E5-618383DF55B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BE694-687C-445C-8532-1B848BDFF3E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9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ACB11-39FE-42FB-ADC8-F4266AD5E2C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932AC-9611-49FD-8219-63653867958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2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8CD2E-1D3C-491C-B643-29726614D97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9CDCA-50EA-476D-B169-BEFEEE37E7C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5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22E63-AD0C-4764-8D55-19B4B6621AC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70562-82B4-4608-B38E-7878E0B79A2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8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99407-5118-469A-8A68-D98AB1CA654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5C6D6-8AF6-41A5-9B61-2525459A939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21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4601B-FC62-42FB-9B33-E83F061A78F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7" descr=""/>
          <p:cNvPicPr/>
          <p:nvPr/>
        </p:nvPicPr>
        <p:blipFill>
          <a:blip r:embed="rId2">
            <a:alphaModFix amt="51000"/>
          </a:blip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"/>
          <p:cNvSpPr/>
          <p:nvPr/>
        </p:nvSpPr>
        <p:spPr>
          <a:xfrm>
            <a:off x="2664000" y="6476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opical Workshop, Šol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4E424-AF00-410F-AC8B-03F0FCC9AFB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4"/>
          </p:nvPr>
        </p:nvSpPr>
        <p:spPr>
          <a:xfrm>
            <a:off x="457200" y="6388200"/>
            <a:ext cx="8229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3B4D5-4F30-4B8B-91E1-E093A3FB93D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r_Quality_Data_Network_Solta_2011" TargetMode="External"/><Relationship Id="rId2" Type="http://schemas.openxmlformats.org/officeDocument/2006/relationships/hyperlink" Target="mailto:rhusar@wustl.edu" TargetMode="External"/><Relationship Id="rId3" Type="http://schemas.openxmlformats.org/officeDocument/2006/relationships/hyperlink" Target="mailto:m.schultz@fz-juelich.de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ebapps.datafed.net/Core.uFIND" TargetMode="External"/><Relationship Id="rId4" Type="http://schemas.openxmlformats.org/officeDocument/2006/relationships/hyperlink" Target="http://wiki.esipfed.org/index.php/WCS_1.0_1.1_2.0_for_AQ_Network" TargetMode="External"/><Relationship Id="rId5" Type="http://schemas.openxmlformats.org/officeDocument/2006/relationships/hyperlink" Target="http://wiki.esipfed.org/index.php/Streaming_and/or_netCDF_File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wiki.esipfed.org/index.php/Air_Quality_Data_Network_Solta_2011" TargetMode="External"/><Relationship Id="rId9" Type="http://schemas.openxmlformats.org/officeDocument/2006/relationships/hyperlink" Target="mailto:rhusar@wustl.edu" TargetMode="External"/><Relationship Id="rId10" Type="http://schemas.openxmlformats.org/officeDocument/2006/relationships/hyperlink" Target="mailto:m.schultz@fz-juelich.de" TargetMode="External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ing Air Quality Observations and Models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om Virtual to R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84360" y="2895480"/>
            <a:ext cx="4192560" cy="1647000"/>
          </a:xfrm>
          <a:prstGeom prst="rect">
            <a:avLst/>
          </a:prstGeom>
          <a:solidFill>
            <a:srgbClr val="ffffe6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, August 23, 24,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.   AM: Reports of Participants, Net.-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: State of AQ Data Network, 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d.  AM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Technical Realization of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: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chnical Realization of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.  AM: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chnical Realization of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: Outcomes, Nex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2"/>
          <p:cNvSpPr/>
          <p:nvPr/>
        </p:nvSpPr>
        <p:spPr>
          <a:xfrm>
            <a:off x="1762200" y="4919760"/>
            <a:ext cx="51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 23-25, 2011, Stomorska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olta, Croa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0" y="6550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ee Workshop Wiki for Detai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cts: Rudolf Husar,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rhusar@wustl.ed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Martin Schultz, </a:t>
            </a:r>
            <a:r>
              <a:rPr b="0" lang="de-DE" sz="11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m.schultz@fz-juelich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6"/>
          <p:cNvSpPr/>
          <p:nvPr/>
        </p:nvSpPr>
        <p:spPr>
          <a:xfrm>
            <a:off x="5486400" y="2895480"/>
            <a:ext cx="2438280" cy="1616400"/>
          </a:xfrm>
          <a:prstGeom prst="rect">
            <a:avLst/>
          </a:prstGeom>
          <a:solidFill>
            <a:srgbClr val="ff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30 Participants               ~20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NR, DHZ, DLR, EEA, EnvCanada, USEPA, FZ Juelich, GEO, JRC, MetNO, NASA, NGC, NILU, NOAA, NPS, RSIG, STI, UNIDATA, WUSt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380880" y="2133720"/>
            <a:ext cx="8153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actitioners from Europe and North America will assess the current state of the network, address key issues, share best practices and work on turning the network from virtual to re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4"/>
          <a:stretch/>
        </p:blipFill>
        <p:spPr>
          <a:xfrm>
            <a:off x="1762200" y="5257800"/>
            <a:ext cx="1743120" cy="109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Picture 15" descr=""/>
          <p:cNvPicPr/>
          <p:nvPr/>
        </p:nvPicPr>
        <p:blipFill>
          <a:blip r:embed="rId5"/>
          <a:stretch/>
        </p:blipFill>
        <p:spPr>
          <a:xfrm>
            <a:off x="3505320" y="5257800"/>
            <a:ext cx="1743120" cy="11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Picture 16" descr=""/>
          <p:cNvPicPr/>
          <p:nvPr/>
        </p:nvPicPr>
        <p:blipFill>
          <a:blip r:embed="rId6"/>
          <a:srcRect l="13984" t="2125" r="693" b="14690"/>
          <a:stretch/>
        </p:blipFill>
        <p:spPr>
          <a:xfrm>
            <a:off x="5248440" y="5273640"/>
            <a:ext cx="1701720" cy="11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3"/>
          <p:cNvGrpSpPr/>
          <p:nvPr/>
        </p:nvGrpSpPr>
        <p:grpSpPr>
          <a:xfrm>
            <a:off x="317520" y="2003400"/>
            <a:ext cx="3035160" cy="1693800"/>
            <a:chOff x="317520" y="2003400"/>
            <a:chExt cx="3035160" cy="1693800"/>
          </a:xfrm>
        </p:grpSpPr>
        <p:pic>
          <p:nvPicPr>
            <p:cNvPr id="509" name="Picture 8" descr=""/>
            <p:cNvPicPr/>
            <p:nvPr/>
          </p:nvPicPr>
          <p:blipFill>
            <a:blip r:embed="rId1"/>
            <a:stretch/>
          </p:blipFill>
          <p:spPr>
            <a:xfrm>
              <a:off x="317520" y="2003400"/>
              <a:ext cx="303516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Rectangle 1"/>
            <p:cNvSpPr/>
            <p:nvPr/>
          </p:nvSpPr>
          <p:spPr>
            <a:xfrm>
              <a:off x="2870280" y="283356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2567160" y="274932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1957320" y="233172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1944720" y="219204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663480" y="2442960"/>
              <a:ext cx="75960" cy="838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1373040" y="3419640"/>
              <a:ext cx="75960" cy="824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1095120" y="2354040"/>
              <a:ext cx="75960" cy="824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Box 9"/>
          <p:cNvSpPr/>
          <p:nvPr/>
        </p:nvSpPr>
        <p:spPr>
          <a:xfrm>
            <a:off x="317520" y="2865600"/>
            <a:ext cx="303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 Data Network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Active AQ WCS Serv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Near-Term New WCS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317520" y="3913200"/>
            <a:ext cx="3035160" cy="172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9" name="TextBox 9"/>
          <p:cNvSpPr/>
          <p:nvPr/>
        </p:nvSpPr>
        <p:spPr>
          <a:xfrm>
            <a:off x="317520" y="4446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AQ Data Network Catalog -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3691080" y="1776240"/>
            <a:ext cx="2570040" cy="2589120"/>
          </a:xfrm>
          <a:prstGeom prst="rect">
            <a:avLst/>
          </a:prstGeom>
          <a:solidFill>
            <a:srgbClr val="d78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rver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4"/>
              </a:rPr>
              <a:t>WCS version 1.0, 1.1.2, 2.0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ing WMS, WFS, WC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for Different Data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 data (model, emiss., sat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-Station (surf. Netw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data typ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Maintenance-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Forge, Docum. Gui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 code govern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Performan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te access or ca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5"/>
              </a:rPr>
              <a:t>Streaming vs file transf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TextBox 19" descr=""/>
          <p:cNvPicPr/>
          <p:nvPr/>
        </p:nvPicPr>
        <p:blipFill>
          <a:blip r:embed="rId6"/>
          <a:stretch/>
        </p:blipFill>
        <p:spPr>
          <a:xfrm>
            <a:off x="6443640" y="2048040"/>
            <a:ext cx="2584440" cy="19936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0"/>
          <p:cNvSpPr/>
          <p:nvPr/>
        </p:nvSpPr>
        <p:spPr>
          <a:xfrm>
            <a:off x="3691080" y="4457880"/>
            <a:ext cx="2570040" cy="2300040"/>
          </a:xfrm>
          <a:prstGeom prst="rect">
            <a:avLst/>
          </a:prstGeom>
          <a:solidFill>
            <a:srgbClr val="d78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Network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Network Design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-interop. bal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atalog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Q Community Cata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ain/Application Catalog(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Metadata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 metadata for A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, quality, secur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 Operation, Mainten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vernance, Legitima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TextBox 21" descr=""/>
          <p:cNvPicPr/>
          <p:nvPr/>
        </p:nvPicPr>
        <p:blipFill>
          <a:blip r:embed="rId7"/>
          <a:stretch/>
        </p:blipFill>
        <p:spPr>
          <a:xfrm>
            <a:off x="6443640" y="4535640"/>
            <a:ext cx="2584440" cy="3222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6"/>
          <p:cNvSpPr/>
          <p:nvPr/>
        </p:nvSpPr>
        <p:spPr>
          <a:xfrm>
            <a:off x="317520" y="1025640"/>
            <a:ext cx="87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Focu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chnical Realization of AQ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0" y="6550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See Workshop Wiki for Detai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cts: Rudolf Husar,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husar@wustl.ed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Martin Schultz, </a:t>
            </a:r>
            <a:r>
              <a:rPr b="0" lang="de-DE" sz="11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m.schultz@fz-juelich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228600" y="16034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Data Network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0"/>
          <p:cNvSpPr/>
          <p:nvPr/>
        </p:nvSpPr>
        <p:spPr>
          <a:xfrm>
            <a:off x="6261120" y="1673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Network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Down Arrow 3"/>
          <p:cNvSpPr/>
          <p:nvPr/>
        </p:nvSpPr>
        <p:spPr>
          <a:xfrm>
            <a:off x="4114800" y="1374840"/>
            <a:ext cx="152280" cy="35244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own Arrow 22"/>
          <p:cNvSpPr/>
          <p:nvPr/>
        </p:nvSpPr>
        <p:spPr>
          <a:xfrm>
            <a:off x="5562720" y="1401840"/>
            <a:ext cx="152280" cy="35244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Notched Right Arrow 41"/>
          <p:cNvSpPr/>
          <p:nvPr/>
        </p:nvSpPr>
        <p:spPr>
          <a:xfrm>
            <a:off x="5653080" y="4965840"/>
            <a:ext cx="2063880" cy="536400"/>
          </a:xfrm>
          <a:custGeom>
            <a:avLst/>
            <a:gdLst>
              <a:gd name="textAreaLeft" fmla="*/ 133920 w 2063880"/>
              <a:gd name="textAreaRight" fmla="*/ 1929960 w 2063880"/>
              <a:gd name="textAreaTop" fmla="*/ 133920 h 536400"/>
              <a:gd name="textAreaBottom" fmla="*/ 402480 h 536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92" y="5400"/>
                </a:lnTo>
                <a:lnTo>
                  <a:pt x="18792" y="0"/>
                </a:lnTo>
                <a:lnTo>
                  <a:pt x="21600" y="10800"/>
                </a:lnTo>
                <a:lnTo>
                  <a:pt x="18792" y="21600"/>
                </a:lnTo>
                <a:lnTo>
                  <a:pt x="18792" y="16200"/>
                </a:lnTo>
                <a:lnTo>
                  <a:pt x="0" y="16200"/>
                </a:lnTo>
                <a:lnTo>
                  <a:pt x="140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Notched Right Arrow 40"/>
          <p:cNvSpPr/>
          <p:nvPr/>
        </p:nvSpPr>
        <p:spPr>
          <a:xfrm>
            <a:off x="5635800" y="3193920"/>
            <a:ext cx="2081160" cy="536760"/>
          </a:xfrm>
          <a:custGeom>
            <a:avLst/>
            <a:gdLst>
              <a:gd name="textAreaLeft" fmla="*/ 133920 w 2081160"/>
              <a:gd name="textAreaRight" fmla="*/ 1947240 w 208116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16" y="5400"/>
                </a:ln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18816" y="16200"/>
                </a:lnTo>
                <a:lnTo>
                  <a:pt x="0" y="16200"/>
                </a:lnTo>
                <a:lnTo>
                  <a:pt x="139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Notched Right Arrow 3"/>
          <p:cNvSpPr/>
          <p:nvPr/>
        </p:nvSpPr>
        <p:spPr>
          <a:xfrm>
            <a:off x="1663560" y="4224240"/>
            <a:ext cx="1994040" cy="536760"/>
          </a:xfrm>
          <a:custGeom>
            <a:avLst/>
            <a:gdLst>
              <a:gd name="textAreaLeft" fmla="*/ 133920 w 1994040"/>
              <a:gd name="textAreaRight" fmla="*/ 1860120 w 199404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94" y="5400"/>
                </a:lnTo>
                <a:lnTo>
                  <a:pt x="18694" y="0"/>
                </a:lnTo>
                <a:lnTo>
                  <a:pt x="21600" y="10800"/>
                </a:lnTo>
                <a:lnTo>
                  <a:pt x="18694" y="21600"/>
                </a:lnTo>
                <a:lnTo>
                  <a:pt x="18694" y="16200"/>
                </a:lnTo>
                <a:lnTo>
                  <a:pt x="0" y="16200"/>
                </a:lnTo>
                <a:lnTo>
                  <a:pt x="145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8"/>
          <p:cNvSpPr/>
          <p:nvPr/>
        </p:nvSpPr>
        <p:spPr>
          <a:xfrm>
            <a:off x="7716960" y="2600280"/>
            <a:ext cx="1282680" cy="3297240"/>
          </a:xfrm>
          <a:prstGeom prst="rect">
            <a:avLst/>
          </a:prstGeom>
          <a:gradFill rotWithShape="0">
            <a:gsLst>
              <a:gs pos="0">
                <a:srgbClr val="006700"/>
              </a:gs>
              <a:gs pos="100000">
                <a:srgbClr val="ffffff"/>
              </a:gs>
            </a:gsLst>
            <a:lin ang="99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233280" y="2600280"/>
            <a:ext cx="1273320" cy="336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372960" y="4362480"/>
            <a:ext cx="99396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341280" y="3511440"/>
            <a:ext cx="982800" cy="52884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37" name="Picture 6" descr=""/>
          <p:cNvPicPr/>
          <p:nvPr/>
        </p:nvPicPr>
        <p:blipFill>
          <a:blip r:embed="rId3"/>
          <a:stretch/>
        </p:blipFill>
        <p:spPr>
          <a:xfrm>
            <a:off x="353880" y="270504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5680" y="1247760"/>
            <a:ext cx="89139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main contributors to the AQ Network are members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1800" spc="-1" strike="noStrike">
                <a:solidFill>
                  <a:srgbClr val="d05300"/>
                </a:solidFill>
                <a:latin typeface="Verdana"/>
                <a:ea typeface="Verdana"/>
              </a:rPr>
              <a:t>Integrating Initiatives/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128520" y="180648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Earth Ob-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" descr=""/>
          <p:cNvPicPr/>
          <p:nvPr/>
        </p:nvPicPr>
        <p:blipFill>
          <a:blip r:embed="rId4"/>
          <a:stretch/>
        </p:blipFill>
        <p:spPr>
          <a:xfrm>
            <a:off x="372960" y="520056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41" name="TextBox 2"/>
          <p:cNvSpPr/>
          <p:nvPr/>
        </p:nvSpPr>
        <p:spPr>
          <a:xfrm>
            <a:off x="1889280" y="2506680"/>
            <a:ext cx="1044360" cy="329076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CIE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E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M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CD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ir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AQ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D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G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R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eb4e3"/>
                </a:solidFill>
                <a:latin typeface="Arial"/>
              </a:rPr>
              <a:t>++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1"/>
          <p:cNvSpPr/>
          <p:nvPr/>
        </p:nvSpPr>
        <p:spPr>
          <a:xfrm>
            <a:off x="6340320" y="2506680"/>
            <a:ext cx="984240" cy="13122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IR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lue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I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S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EGA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DS-W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VIEW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341280" y="548964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3"/>
          <p:cNvSpPr/>
          <p:nvPr/>
        </p:nvSpPr>
        <p:spPr>
          <a:xfrm>
            <a:off x="398520" y="460692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4"/>
          <p:cNvSpPr/>
          <p:nvPr/>
        </p:nvSpPr>
        <p:spPr>
          <a:xfrm>
            <a:off x="324000" y="3695760"/>
            <a:ext cx="10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6"/>
          <p:cNvSpPr/>
          <p:nvPr/>
        </p:nvSpPr>
        <p:spPr>
          <a:xfrm>
            <a:off x="353880" y="273384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g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n 2"/>
          <p:cNvSpPr/>
          <p:nvPr/>
        </p:nvSpPr>
        <p:spPr>
          <a:xfrm>
            <a:off x="3733920" y="3036960"/>
            <a:ext cx="1805040" cy="2979720"/>
          </a:xfrm>
          <a:prstGeom prst="can">
            <a:avLst>
              <a:gd name="adj" fmla="val 15143"/>
            </a:avLst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50" descr=""/>
          <p:cNvPicPr/>
          <p:nvPr/>
        </p:nvPicPr>
        <p:blipFill>
          <a:blip r:embed="rId5"/>
          <a:stretch/>
        </p:blipFill>
        <p:spPr>
          <a:xfrm>
            <a:off x="4145040" y="4224240"/>
            <a:ext cx="1084320" cy="741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"/>
          <p:cNvPicPr/>
          <p:nvPr/>
        </p:nvPicPr>
        <p:blipFill>
          <a:blip r:embed="rId6"/>
          <a:stretch/>
        </p:blipFill>
        <p:spPr>
          <a:xfrm>
            <a:off x="4335480" y="3162240"/>
            <a:ext cx="631800" cy="4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0" name="Picture 5" descr=""/>
          <p:cNvPicPr/>
          <p:nvPr/>
        </p:nvPicPr>
        <p:blipFill>
          <a:blip r:embed="rId7"/>
          <a:stretch/>
        </p:blipFill>
        <p:spPr>
          <a:xfrm>
            <a:off x="4119480" y="5094360"/>
            <a:ext cx="1109880" cy="8031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47"/>
          <p:cNvSpPr/>
          <p:nvPr/>
        </p:nvSpPr>
        <p:spPr>
          <a:xfrm>
            <a:off x="3736800" y="3611520"/>
            <a:ext cx="1845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7716960" y="1833480"/>
            <a:ext cx="128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Societal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"/>
          <p:cNvSpPr/>
          <p:nvPr/>
        </p:nvSpPr>
        <p:spPr>
          <a:xfrm>
            <a:off x="6346800" y="4451400"/>
            <a:ext cx="949320" cy="146448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C&amp;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eroCOM AQ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QMEII CCI-Aerosol PEGASOS TF-HT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thers 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1"/>
          <p:cNvSpPr/>
          <p:nvPr/>
        </p:nvSpPr>
        <p:spPr>
          <a:xfrm>
            <a:off x="3108240" y="2311560"/>
            <a:ext cx="3063960" cy="5508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 | AQ_CoP | B.GN | CHIST |CIERA | COST |CyAir DataONE | EANET | EGIDA | ESIP | EuroGEOSS | INSPIRE | MaleDecl | QA4E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6343560" y="1986120"/>
            <a:ext cx="981000" cy="55224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7840800" y="281304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ing the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7840800" y="358776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tecting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7846920" y="5208480"/>
            <a:ext cx="101448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lobal Pol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7848720" y="438768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mosph.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00080" y="6095880"/>
            <a:ext cx="8912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05300"/>
                </a:solidFill>
                <a:latin typeface="Verdana"/>
                <a:ea typeface="Verdana"/>
              </a:rPr>
              <a:t>Integrating Initiatives/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are the main clients and users of the AQ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7"/>
          <p:cNvSpPr/>
          <p:nvPr/>
        </p:nvSpPr>
        <p:spPr>
          <a:xfrm>
            <a:off x="6346800" y="3948120"/>
            <a:ext cx="981000" cy="55260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1889280" y="1954080"/>
            <a:ext cx="981000" cy="55260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7"/>
          <p:cNvSpPr/>
          <p:nvPr/>
        </p:nvSpPr>
        <p:spPr>
          <a:xfrm>
            <a:off x="3100320" y="1935000"/>
            <a:ext cx="3063960" cy="36864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il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2:13:07Z</dcterms:created>
  <dc:creator>Rudy Husar</dc:creator>
  <dc:description/>
  <dc:language>en-US</dc:language>
  <cp:lastModifiedBy>Rudy Husar</cp:lastModifiedBy>
  <dcterms:modified xsi:type="dcterms:W3CDTF">2011-07-18T15:14:21Z</dcterms:modified>
  <cp:revision>117</cp:revision>
  <dc:subject/>
  <dc:title>Slide 1</dc:title>
</cp:coreProperties>
</file>